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wmf" ContentType="image/x-wmf"/>
  <Override PartName="/ppt/media/image13.jpeg" ContentType="image/jpeg"/>
  <Override PartName="/ppt/media/image1.wmf" ContentType="image/x-wmf"/>
  <Override PartName="/ppt/media/image11.jpeg" ContentType="image/jpeg"/>
  <Override PartName="/ppt/media/image9.jpeg" ContentType="image/jpeg"/>
  <Override PartName="/ppt/media/type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02B9-F854-4A57-A297-A5A1B2015EF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F34B-C9CE-43DF-82E1-FDBBC734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B12-5B4B-4704-ABB0-1CB5E49B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7DD8-DA65-4107-82F3-7C6F7CE6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E71-4512-4F9D-A19F-293F8111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BBA6-A878-41B1-A5E6-2C18521C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0B6D-2CDA-43F0-9988-DFF35639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6897-92CB-4D51-A5CC-F12B9CBE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C298-0255-4D6C-A21F-03002E6B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F437-2F97-43CA-9108-D72E0125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B433-F47B-409E-B6A0-0D2C07AF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B150-D842-4467-BABE-4F3A49EC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5DE0-8E17-4505-A6B6-E4B6CAFA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DB1A-75B3-404C-AB9D-2F913F35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6155-7949-4B2E-B9F5-2CBC15A5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056B-40D0-404F-977E-9662E165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2BA5-D3CB-4609-BED8-44CB10B8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282C-865D-4B58-8BE6-1C73EDCF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9851-E3A7-4B2A-9995-D6DDB07F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C635-57BF-41C0-BEAB-73DCF8A9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0EA3-2DCD-422F-9567-7E478F1B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B782-FD42-43F1-874E-30A22CB5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F578-E81E-484F-81D4-B75B7834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D17-A17B-427D-B327-5E45CF53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7DB0-0772-4C11-88DB-DB9E2AF2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1B88-E086-4F05-B0E2-2730793FA129}" type="slidenum">
              <a:rPr b="0" lang="pl-PL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03E0-01CC-4736-8985-F5D43E167FBC}" type="slidenum">
              <a:rPr b="0" lang="pl-PL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ibiblio.org/ipa/milosz/pics/mil2.gif" TargetMode="External"/><Relationship Id="rId3" Type="http://schemas.openxmlformats.org/officeDocument/2006/relationships/image" Target="../media/image2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ycos.co.uk/cgi-bin/nph-bounce?fetch200301%7C/L/I/A28/" TargetMode="Externa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biblio.org/ipa/milosz/pics/mil2.gif" TargetMode="Externa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j0078952" descr=""/>
          <p:cNvPicPr/>
          <p:nvPr/>
        </p:nvPicPr>
        <p:blipFill>
          <a:blip r:embed="rId1"/>
          <a:stretch/>
        </p:blipFill>
        <p:spPr>
          <a:xfrm>
            <a:off x="5486400" y="2819520"/>
            <a:ext cx="3505320" cy="2886120"/>
          </a:xfrm>
          <a:prstGeom prst="rect">
            <a:avLst/>
          </a:prstGeom>
          <a:ln w="0">
            <a:noFill/>
          </a:ln>
        </p:spPr>
      </p:pic>
      <p:pic>
        <p:nvPicPr>
          <p:cNvPr id="298" name="mil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2209680"/>
            <a:ext cx="4343400" cy="40989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1905120" y="609480"/>
            <a:ext cx="41241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zesław Miłosz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600" y="1144080"/>
            <a:ext cx="73785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Twórczość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434c87"/>
                </a:solidFill>
                <a:latin typeface="Verdana"/>
              </a:rPr>
              <a:t>Historia literatury polskiej</a:t>
            </a:r>
            <a:br>
              <a:rPr sz="2800"/>
            </a:br>
            <a:r>
              <a:rPr b="1" lang="pl-PL" sz="2400" spc="-1" strike="noStrike">
                <a:solidFill>
                  <a:srgbClr val="434c87"/>
                </a:solidFill>
                <a:latin typeface="Verdana"/>
              </a:rPr>
              <a:t>Gdzie wschodzi słońce i kędy zapada </a:t>
            </a:r>
            <a:r>
              <a:rPr b="0" lang="pl-PL" sz="2400" spc="-1" strike="noStrike">
                <a:solidFill>
                  <a:srgbClr val="111111"/>
                </a:solidFill>
                <a:latin typeface="Verdana"/>
              </a:rPr>
              <a:t>    </a:t>
            </a:r>
            <a:br>
              <a:rPr sz="2400"/>
            </a:br>
            <a:r>
              <a:rPr b="1" lang="pl-PL" sz="2400" spc="-1" strike="noStrike">
                <a:solidFill>
                  <a:srgbClr val="434c87"/>
                </a:solidFill>
                <a:latin typeface="Verdana"/>
              </a:rPr>
              <a:t>Piesek przydrożny</a:t>
            </a:r>
            <a:r>
              <a:rPr b="1" lang="pl-PL" sz="2400" spc="-1" strike="noStrike">
                <a:solidFill>
                  <a:srgbClr val="bf573a"/>
                </a:solidFill>
                <a:latin typeface="Verdana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434c87"/>
                </a:solidFill>
                <a:latin typeface="Verdana"/>
              </a:rPr>
              <a:t>Rok myśliwego</a:t>
            </a:r>
            <a:br>
              <a:rPr sz="2400"/>
            </a:br>
            <a:r>
              <a:rPr b="1" lang="pl-PL" sz="2400" spc="-1" strike="noStrike">
                <a:solidFill>
                  <a:srgbClr val="434c87"/>
                </a:solidFill>
                <a:latin typeface="Verdana"/>
              </a:rPr>
              <a:t>Ziemia Ulro</a:t>
            </a:r>
            <a:br>
              <a:rPr sz="2400"/>
            </a:br>
            <a:r>
              <a:rPr b="1" lang="pl-PL" sz="2400" spc="-1" strike="noStrike">
                <a:solidFill>
                  <a:srgbClr val="000066"/>
                </a:solidFill>
                <a:latin typeface="Verdana"/>
              </a:rPr>
              <a:t>Zniewolony umysł</a:t>
            </a:r>
            <a:br>
              <a:rPr sz="2400"/>
            </a:br>
            <a:r>
              <a:rPr b="1" lang="pl-PL" sz="2400" spc="-1" strike="noStrike">
                <a:solidFill>
                  <a:srgbClr val="003366"/>
                </a:solidFill>
                <a:latin typeface="Verdana"/>
              </a:rPr>
              <a:t>To</a:t>
            </a:r>
            <a:br>
              <a:rPr sz="2400"/>
            </a:br>
            <a:r>
              <a:rPr b="1" lang="pl-PL" sz="2400" spc="-1" strike="noStrike">
                <a:solidFill>
                  <a:srgbClr val="434c87"/>
                </a:solidFill>
                <a:latin typeface="Verdana"/>
              </a:rPr>
              <a:t>Ogród nauk</a:t>
            </a:r>
            <a:br>
              <a:rPr sz="2400"/>
            </a:br>
            <a:r>
              <a:rPr b="1" lang="pl-PL" sz="2400" spc="-1" strike="noStrike">
                <a:solidFill>
                  <a:srgbClr val="434c87"/>
                </a:solidFill>
                <a:latin typeface="Verdana"/>
              </a:rPr>
              <a:t>Jakiegoż to gościa mieliśmy.</a:t>
            </a:r>
            <a:r>
              <a:rPr b="0" lang="pl-PL" sz="2400" spc="-1" strike="noStrike">
                <a:solidFill>
                  <a:srgbClr val="bf573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  <p:pic>
        <p:nvPicPr>
          <p:cNvPr id="399" name="BS00554_" descr=""/>
          <p:cNvPicPr/>
          <p:nvPr/>
        </p:nvPicPr>
        <p:blipFill>
          <a:blip r:embed="rId2"/>
          <a:stretch/>
        </p:blipFill>
        <p:spPr>
          <a:xfrm>
            <a:off x="5168880" y="3389400"/>
            <a:ext cx="3975120" cy="34686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0" y="33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3366"/>
                </a:solidFill>
                <a:latin typeface="Times New Roman"/>
              </a:rPr>
              <a:t>Słońc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3366"/>
                </a:solidFill>
                <a:latin typeface="Times New Roman"/>
              </a:rPr>
              <a:t>Barwy ze słońca są. Bo ono nie ma</a:t>
            </a:r>
            <a:br>
              <a:rPr sz="1600"/>
            </a:br>
            <a:r>
              <a:rPr b="0" lang="pl-PL" sz="1600" spc="-1" strike="noStrike">
                <a:solidFill>
                  <a:srgbClr val="003366"/>
                </a:solidFill>
                <a:latin typeface="Times New Roman"/>
              </a:rPr>
              <a:t>Żadnej osobnej barwy, bo ma wszystkie.</a:t>
            </a:r>
            <a:br>
              <a:rPr sz="1600"/>
            </a:br>
            <a:r>
              <a:rPr b="0" lang="pl-PL" sz="1600" spc="-1" strike="noStrike">
                <a:solidFill>
                  <a:srgbClr val="003366"/>
                </a:solidFill>
                <a:latin typeface="Times New Roman"/>
              </a:rPr>
              <a:t>I cała ziemia jest niby poemat,</a:t>
            </a:r>
            <a:br>
              <a:rPr sz="1600"/>
            </a:br>
            <a:r>
              <a:rPr b="0" lang="pl-PL" sz="1600" spc="-1" strike="noStrike">
                <a:solidFill>
                  <a:srgbClr val="003366"/>
                </a:solidFill>
                <a:latin typeface="Times New Roman"/>
              </a:rPr>
              <a:t>A słońce nad nią przedstawia artystę.</a:t>
            </a:r>
            <a:br>
              <a:rPr sz="1600"/>
            </a:br>
            <a:br>
              <a:rPr sz="1600"/>
            </a:br>
            <a:r>
              <a:rPr b="0" lang="pl-PL" sz="1600" spc="-1" strike="noStrike">
                <a:solidFill>
                  <a:srgbClr val="003366"/>
                </a:solidFill>
                <a:latin typeface="Times New Roman"/>
              </a:rPr>
              <a:t>Kto chce malować świat w barwnej postaci,</a:t>
            </a:r>
            <a:br>
              <a:rPr sz="1600"/>
            </a:br>
            <a:r>
              <a:rPr b="0" lang="pl-PL" sz="1600" spc="-1" strike="noStrike">
                <a:solidFill>
                  <a:srgbClr val="003366"/>
                </a:solidFill>
                <a:latin typeface="Times New Roman"/>
              </a:rPr>
              <a:t>Niechaj nie patrzy nigdy prosto w słońce.</a:t>
            </a:r>
            <a:br>
              <a:rPr sz="1600"/>
            </a:br>
            <a:r>
              <a:rPr b="0" lang="pl-PL" sz="1600" spc="-1" strike="noStrike">
                <a:solidFill>
                  <a:srgbClr val="003366"/>
                </a:solidFill>
                <a:latin typeface="Times New Roman"/>
              </a:rPr>
              <a:t>Bo pamięć rzeczy, które widział, straci,</a:t>
            </a:r>
            <a:br>
              <a:rPr sz="1600"/>
            </a:br>
            <a:r>
              <a:rPr b="0" lang="pl-PL" sz="1600" spc="-1" strike="noStrike">
                <a:solidFill>
                  <a:srgbClr val="003366"/>
                </a:solidFill>
                <a:latin typeface="Times New Roman"/>
              </a:rPr>
              <a:t>Łzy tylko w oczach zostaną piekące.</a:t>
            </a:r>
            <a:br>
              <a:rPr sz="1600"/>
            </a:br>
            <a:br>
              <a:rPr sz="1600"/>
            </a:br>
            <a:r>
              <a:rPr b="0" lang="pl-PL" sz="1600" spc="-1" strike="noStrike">
                <a:solidFill>
                  <a:srgbClr val="003366"/>
                </a:solidFill>
                <a:latin typeface="Times New Roman"/>
              </a:rPr>
              <a:t>Niechaj przyklęknie, twarz ku trawie schyli</a:t>
            </a:r>
            <a:br>
              <a:rPr sz="1600"/>
            </a:br>
            <a:r>
              <a:rPr b="0" lang="pl-PL" sz="1600" spc="-1" strike="noStrike">
                <a:solidFill>
                  <a:srgbClr val="003366"/>
                </a:solidFill>
                <a:latin typeface="Times New Roman"/>
              </a:rPr>
              <a:t>I patrzy w promień od ziemi odbity.</a:t>
            </a:r>
            <a:br>
              <a:rPr sz="1600"/>
            </a:br>
            <a:r>
              <a:rPr b="0" lang="pl-PL" sz="1600" spc="-1" strike="noStrike">
                <a:solidFill>
                  <a:srgbClr val="003366"/>
                </a:solidFill>
                <a:latin typeface="Times New Roman"/>
              </a:rPr>
              <a:t>Tam znajdzie wszystko, cośmy porzucili</a:t>
            </a:r>
            <a:br>
              <a:rPr sz="1600"/>
            </a:br>
            <a:r>
              <a:rPr b="0" lang="pl-PL" sz="1600" spc="-1" strike="noStrike">
                <a:solidFill>
                  <a:srgbClr val="003366"/>
                </a:solidFill>
                <a:latin typeface="Times New Roman"/>
              </a:rPr>
              <a:t>Gwiazdy i róże, i zmierzchy, i świty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285768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022640" y="2903400"/>
            <a:ext cx="1098720" cy="1054080"/>
            <a:chOff x="4022640" y="2903400"/>
            <a:chExt cx="1098720" cy="1054080"/>
          </a:xfrm>
        </p:grpSpPr>
        <p:sp>
          <p:nvSpPr>
            <p:cNvPr id="407" name=""/>
            <p:cNvSpPr/>
            <p:nvPr/>
          </p:nvSpPr>
          <p:spPr>
            <a:xfrm>
              <a:off x="4022640" y="2903400"/>
              <a:ext cx="800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22640" y="2903400"/>
              <a:ext cx="109872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3366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3900" spc="-1" strike="noStrike">
                  <a:solidFill>
                    <a:srgbClr val="003366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         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4000"/>
                </a:solidFill>
                <a:latin typeface="Verdana"/>
              </a:rPr>
              <a:t>Rękopisy</a:t>
            </a:r>
            <a:r>
              <a:rPr b="0" lang="pl-PL" sz="4400" spc="-1" strike="noStrike">
                <a:solidFill>
                  <a:srgbClr val="004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  <p:pic>
        <p:nvPicPr>
          <p:cNvPr id="412" name="cmp" descr=""/>
          <p:cNvPicPr/>
          <p:nvPr/>
        </p:nvPicPr>
        <p:blipFill>
          <a:blip r:embed="rId2"/>
          <a:stretch/>
        </p:blipFill>
        <p:spPr>
          <a:xfrm flipH="1" rot="10800000">
            <a:off x="2057400" y="2189880"/>
            <a:ext cx="685800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3366"/>
                </a:solidFill>
                <a:latin typeface="Times New Roman"/>
              </a:rPr>
              <a:t>Dziecię Europ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My, którym słodycz dnia przenika do płuc </a:t>
            </a:r>
            <a:br>
              <a:rPr sz="2400"/>
            </a:b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I widzimy gałęzie rozkwitające w maju, </a:t>
            </a:r>
            <a:br>
              <a:rPr sz="2400"/>
            </a:b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Jesteśmy lepsi od tych, co zginęli. 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My, którzy smakujemy egzotyczne potrawy </a:t>
            </a:r>
            <a:br>
              <a:rPr sz="2400"/>
            </a:b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I oceniamy w pełni igraszki miłości, </a:t>
            </a:r>
            <a:br>
              <a:rPr sz="2400"/>
            </a:b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Jesteśmy lepsi od nich, pogrzebanych. 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Z pieców ognistych, zza drutów, w których świszcze wiatr 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0" y="289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109520" y="2897280"/>
            <a:ext cx="69264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Który skrzywdziłeś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990720" y="1676520"/>
            <a:ext cx="6686280" cy="3875400"/>
            <a:chOff x="990720" y="1676520"/>
            <a:chExt cx="6686280" cy="3875400"/>
          </a:xfrm>
        </p:grpSpPr>
        <p:sp>
          <p:nvSpPr>
            <p:cNvPr id="419" name=""/>
            <p:cNvSpPr/>
            <p:nvPr/>
          </p:nvSpPr>
          <p:spPr>
            <a:xfrm>
              <a:off x="990720" y="1676520"/>
              <a:ext cx="6686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90720" y="1676520"/>
              <a:ext cx="6686280" cy="237600"/>
            </a:xfrm>
            <a:prstGeom prst="rect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990720" y="1914120"/>
              <a:ext cx="6684120" cy="3637800"/>
              <a:chOff x="990720" y="1914120"/>
              <a:chExt cx="6684120" cy="3637800"/>
            </a:xfrm>
          </p:grpSpPr>
          <p:sp>
            <p:nvSpPr>
              <p:cNvPr id="422" name=""/>
              <p:cNvSpPr/>
              <p:nvPr/>
            </p:nvSpPr>
            <p:spPr>
              <a:xfrm>
                <a:off x="990720" y="1914120"/>
                <a:ext cx="483840" cy="3637800"/>
              </a:xfrm>
              <a:prstGeom prst="rect">
                <a:avLst/>
              </a:prstGeom>
              <a:solidFill>
                <a:srgbClr val="fff1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9297c"/>
                    </a:solidFill>
                    <a:latin typeface="Verdana"/>
                  </a:rPr>
                  <a:t>  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474560" y="1914120"/>
                <a:ext cx="6200280" cy="363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29297c"/>
                    </a:solidFill>
                    <a:latin typeface="Verdana"/>
                  </a:rPr>
                  <a:t>Który skrzywdziłeś człowieka prostego</a:t>
                </a:r>
                <a:br>
                  <a:rPr sz="2000"/>
                </a:br>
                <a:r>
                  <a:rPr b="0" lang="pl-PL" sz="2000" spc="-1" strike="noStrike">
                    <a:solidFill>
                      <a:srgbClr val="29297c"/>
                    </a:solidFill>
                    <a:latin typeface="Verdana"/>
                  </a:rPr>
                  <a:t>Śmiechem nad krzywdą jego wybuchając,</a:t>
                </a:r>
                <a:br>
                  <a:rPr sz="2000"/>
                </a:br>
                <a:r>
                  <a:rPr b="0" lang="pl-PL" sz="2000" spc="-1" strike="noStrike">
                    <a:solidFill>
                      <a:srgbClr val="29297c"/>
                    </a:solidFill>
                    <a:latin typeface="Verdana"/>
                  </a:rPr>
                  <a:t>Gromadę błaznów koło siebie mając</a:t>
                </a:r>
                <a:br>
                  <a:rPr sz="2000"/>
                </a:br>
                <a:r>
                  <a:rPr b="0" lang="pl-PL" sz="2000" spc="-1" strike="noStrike">
                    <a:solidFill>
                      <a:srgbClr val="29297c"/>
                    </a:solidFill>
                    <a:latin typeface="Verdana"/>
                  </a:rPr>
                  <a:t>Na pomieszanie dobrego i złego,</a:t>
                </a:r>
                <a:br>
                  <a:rPr sz="2000"/>
                </a:b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29297c"/>
                    </a:solidFill>
                    <a:latin typeface="Verdana"/>
                  </a:rPr>
                  <a:t>Choćby przed tobą wszyscy się skłonili</a:t>
                </a:r>
                <a:br>
                  <a:rPr sz="2000"/>
                </a:br>
                <a:r>
                  <a:rPr b="0" lang="pl-PL" sz="2000" spc="-1" strike="noStrike">
                    <a:solidFill>
                      <a:srgbClr val="29297c"/>
                    </a:solidFill>
                    <a:latin typeface="Verdana"/>
                  </a:rPr>
                  <a:t>Cnotę i mądrość tobie przypisując,</a:t>
                </a:r>
                <a:br>
                  <a:rPr sz="2000"/>
                </a:br>
                <a:r>
                  <a:rPr b="0" lang="pl-PL" sz="2000" spc="-1" strike="noStrike">
                    <a:solidFill>
                      <a:srgbClr val="29297c"/>
                    </a:solidFill>
                    <a:latin typeface="Verdana"/>
                  </a:rPr>
                  <a:t>Złote medale na twoją cześć kując,</a:t>
                </a:r>
                <a:br>
                  <a:rPr sz="2000"/>
                </a:br>
                <a:r>
                  <a:rPr b="0" lang="pl-PL" sz="2000" spc="-1" strike="noStrike">
                    <a:solidFill>
                      <a:srgbClr val="29297c"/>
                    </a:solidFill>
                    <a:latin typeface="Verdana"/>
                  </a:rPr>
                  <a:t>Radzi, że jeszcze jeden dzień przeżyli,</a:t>
                </a:r>
                <a:br>
                  <a:rPr sz="2000"/>
                </a:b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29297c"/>
                    </a:solidFill>
                    <a:latin typeface="Verdana"/>
                  </a:rPr>
                  <a:t>Nie bądź bezpieczny. Poeta pamięta</a:t>
                </a:r>
                <a:br>
                  <a:rPr sz="2000"/>
                </a:br>
                <a:r>
                  <a:rPr b="0" lang="pl-PL" sz="2000" spc="-1" strike="noStrike">
                    <a:solidFill>
                      <a:srgbClr val="29297c"/>
                    </a:solidFill>
                    <a:latin typeface="Verdana"/>
                  </a:rPr>
                  <a:t>Możesz go zabić - narodzi się nowy.</a:t>
                </a:r>
                <a:br>
                  <a:rPr sz="2000"/>
                </a:br>
                <a:r>
                  <a:rPr b="0" lang="pl-PL" sz="2000" spc="-1" strike="noStrike">
                    <a:solidFill>
                      <a:srgbClr val="29297c"/>
                    </a:solidFill>
                    <a:latin typeface="Verdana"/>
                  </a:rPr>
                  <a:t>Spisane będą czyny i rozmowy.</a:t>
                </a:r>
                <a:br>
                  <a:rPr sz="2000"/>
                </a:b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29297c"/>
                    </a:solidFill>
                    <a:latin typeface="Verdana"/>
                  </a:rPr>
                  <a:t>Lepszy dla ciebie byłby świt zimowy</a:t>
                </a:r>
                <a:br>
                  <a:rPr sz="2000"/>
                </a:br>
                <a:r>
                  <a:rPr b="0" lang="pl-PL" sz="2000" spc="-1" strike="noStrike">
                    <a:solidFill>
                      <a:srgbClr val="29297c"/>
                    </a:solidFill>
                    <a:latin typeface="Verdana"/>
                  </a:rPr>
                  <a:t>I sznur i gałąź pod ciężarem zgięta.</a:t>
                </a:r>
                <a:r>
                  <a:rPr b="0" lang="en-US" sz="2000" spc="-1" strike="noStrike">
                    <a:solidFill>
                      <a:srgbClr val="29297c"/>
                    </a:solidFill>
                    <a:latin typeface="Verdana"/>
                  </a:rPr>
                  <a:t> </a:t>
                </a:r>
                <a:br>
                  <a:rPr sz="2000"/>
                </a:br>
                <a:br>
                  <a:rPr sz="2000"/>
                </a:b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24" name="spacer" descr=""/>
          <p:cNvPicPr/>
          <p:nvPr/>
        </p:nvPicPr>
        <p:blipFill>
          <a:blip r:embed="rId1"/>
          <a:stretch/>
        </p:blipFill>
        <p:spPr>
          <a:xfrm>
            <a:off x="1357200" y="1841400"/>
            <a:ext cx="11160" cy="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3366"/>
                </a:solidFill>
                <a:latin typeface="Times New Roman"/>
              </a:rPr>
              <a:t>Opracował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Anna Bana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Nauczyciel Zespołu Szkó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im.Jana Pawła II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w Zdzieszowicac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Dzieciństwo w Szetejnia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171880" y="2925720"/>
            <a:ext cx="4800600" cy="1006560"/>
            <a:chOff x="2171880" y="2925720"/>
            <a:chExt cx="4800600" cy="1006560"/>
          </a:xfrm>
        </p:grpSpPr>
        <p:sp>
          <p:nvSpPr>
            <p:cNvPr id="304" name=""/>
            <p:cNvSpPr/>
            <p:nvPr/>
          </p:nvSpPr>
          <p:spPr>
            <a:xfrm>
              <a:off x="2171880" y="2925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2171880" y="2925720"/>
              <a:ext cx="4800600" cy="1006560"/>
              <a:chOff x="2171880" y="2925720"/>
              <a:chExt cx="4800600" cy="1006560"/>
            </a:xfrm>
          </p:grpSpPr>
          <p:sp>
            <p:nvSpPr>
              <p:cNvPr id="306" name=""/>
              <p:cNvSpPr/>
              <p:nvPr/>
            </p:nvSpPr>
            <p:spPr>
              <a:xfrm>
                <a:off x="2171880" y="292572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71880" y="2925720"/>
                <a:ext cx="48006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Verdana"/>
                  </a:rPr>
                  <a:t>  </a:t>
                </a:r>
                <a:r>
                  <a:rPr b="0" lang="en-US" sz="6000" spc="-1" strike="noStrike">
                    <a:solidFill>
                      <a:srgbClr val="003366"/>
                    </a:solidFill>
                    <a:latin typeface="Verdana"/>
                  </a:rPr>
                  <a:t> 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Verdana"/>
                  </a:rPr>
                  <a:t>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08" name="for_dworwszetejniach1" descr="Dwór Kunatów w Szetejniach. Fot. z archiwum A. Miłosza."/>
          <p:cNvPicPr/>
          <p:nvPr/>
        </p:nvPicPr>
        <p:blipFill>
          <a:blip r:embed="rId1"/>
          <a:stretch/>
        </p:blipFill>
        <p:spPr>
          <a:xfrm>
            <a:off x="4114800" y="2590920"/>
            <a:ext cx="4800600" cy="32274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171880" y="2652840"/>
            <a:ext cx="4800600" cy="1539720"/>
            <a:chOff x="2171880" y="2652840"/>
            <a:chExt cx="4800600" cy="1539720"/>
          </a:xfrm>
        </p:grpSpPr>
        <p:sp>
          <p:nvSpPr>
            <p:cNvPr id="311" name=""/>
            <p:cNvSpPr/>
            <p:nvPr/>
          </p:nvSpPr>
          <p:spPr>
            <a:xfrm>
              <a:off x="2171880" y="2652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2171880" y="2652840"/>
              <a:ext cx="4800600" cy="1539720"/>
              <a:chOff x="2171880" y="2652840"/>
              <a:chExt cx="4800600" cy="1539720"/>
            </a:xfrm>
          </p:grpSpPr>
          <p:sp>
            <p:nvSpPr>
              <p:cNvPr id="313" name=""/>
              <p:cNvSpPr/>
              <p:nvPr/>
            </p:nvSpPr>
            <p:spPr>
              <a:xfrm>
                <a:off x="2171880" y="265284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71880" y="2652840"/>
                <a:ext cx="480060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Verdana"/>
                  </a:rPr>
                  <a:t>  </a:t>
                </a:r>
                <a:r>
                  <a:rPr b="0" lang="en-US" sz="9500" spc="-1" strike="noStrike">
                    <a:solidFill>
                      <a:srgbClr val="003366"/>
                    </a:solidFill>
                    <a:latin typeface="Verdana"/>
                  </a:rPr>
                  <a:t> 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Verdana"/>
                  </a:rPr>
                  <a:t>                                                   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 Times New Roman"/>
                  </a:rPr>
                  <a:t> </a:t>
                </a:r>
                <a:endParaRPr b="0" lang="en-US" sz="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15" name="fot_czeslawmiloszfotografiazlatszkolnych1" descr="Cz. Miłosz w latach szkolnych. Fot. z archiwum A. Miłosza."/>
          <p:cNvPicPr/>
          <p:nvPr/>
        </p:nvPicPr>
        <p:blipFill>
          <a:blip r:embed="rId2"/>
          <a:stretch/>
        </p:blipFill>
        <p:spPr>
          <a:xfrm>
            <a:off x="762120" y="2590920"/>
            <a:ext cx="30319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Gimnazjalista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27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171880" y="2274840"/>
            <a:ext cx="4800600" cy="2255760"/>
            <a:chOff x="2171880" y="2274840"/>
            <a:chExt cx="4800600" cy="2255760"/>
          </a:xfrm>
        </p:grpSpPr>
        <p:sp>
          <p:nvSpPr>
            <p:cNvPr id="320" name=""/>
            <p:cNvSpPr/>
            <p:nvPr/>
          </p:nvSpPr>
          <p:spPr>
            <a:xfrm>
              <a:off x="2171880" y="227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2171880" y="2274840"/>
              <a:ext cx="4800600" cy="2255760"/>
              <a:chOff x="2171880" y="2274840"/>
              <a:chExt cx="4800600" cy="2255760"/>
            </a:xfrm>
          </p:grpSpPr>
          <p:sp>
            <p:nvSpPr>
              <p:cNvPr id="322" name=""/>
              <p:cNvSpPr/>
              <p:nvPr/>
            </p:nvSpPr>
            <p:spPr>
              <a:xfrm>
                <a:off x="2171880" y="227484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71880" y="2274840"/>
                <a:ext cx="4800600" cy="22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Verdana"/>
                  </a:rPr>
                  <a:t>  </a:t>
                </a:r>
                <a:r>
                  <a:rPr b="0" lang="en-US" sz="14200" spc="-1" strike="noStrike">
                    <a:solidFill>
                      <a:srgbClr val="003366"/>
                    </a:solidFill>
                    <a:latin typeface="Verdana"/>
                  </a:rPr>
                  <a:t> 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Verdana"/>
                  </a:rPr>
                  <a:t>                                                   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 Times New Roman"/>
                  </a:rPr>
                  <a:t> </a:t>
                </a:r>
                <a:endParaRPr b="0" lang="en-US" sz="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24" name="fot_czeslawmiloszwczasachgimnazjalnych1" descr="Cz. Miłosz w latach gimnazjalnych. Fot. z archiwum A. Miłosza."/>
          <p:cNvPicPr/>
          <p:nvPr/>
        </p:nvPicPr>
        <p:blipFill>
          <a:blip r:embed="rId1"/>
          <a:stretch/>
        </p:blipFill>
        <p:spPr>
          <a:xfrm>
            <a:off x="990720" y="2133720"/>
            <a:ext cx="394812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3366"/>
                </a:solidFill>
                <a:latin typeface="Times New Roman"/>
              </a:rPr>
              <a:t>Studen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71880" y="2349360"/>
            <a:ext cx="4800600" cy="2119320"/>
            <a:chOff x="2171880" y="2349360"/>
            <a:chExt cx="4800600" cy="2119320"/>
          </a:xfrm>
        </p:grpSpPr>
        <p:sp>
          <p:nvSpPr>
            <p:cNvPr id="329" name=""/>
            <p:cNvSpPr/>
            <p:nvPr/>
          </p:nvSpPr>
          <p:spPr>
            <a:xfrm>
              <a:off x="2171880" y="2349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2171880" y="2349360"/>
              <a:ext cx="4800600" cy="2119320"/>
              <a:chOff x="2171880" y="2349360"/>
              <a:chExt cx="4800600" cy="2119320"/>
            </a:xfrm>
          </p:grpSpPr>
          <p:sp>
            <p:nvSpPr>
              <p:cNvPr id="331" name=""/>
              <p:cNvSpPr/>
              <p:nvPr/>
            </p:nvSpPr>
            <p:spPr>
              <a:xfrm>
                <a:off x="2171880" y="234936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171880" y="2349360"/>
                <a:ext cx="4800600" cy="21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Verdana"/>
                  </a:rPr>
                  <a:t>  </a:t>
                </a:r>
                <a:r>
                  <a:rPr b="0" lang="en-US" sz="13300" spc="-1" strike="noStrike">
                    <a:solidFill>
                      <a:srgbClr val="003366"/>
                    </a:solidFill>
                    <a:latin typeface="Verdana"/>
                  </a:rPr>
                  <a:t> 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Verdana"/>
                  </a:rPr>
                  <a:t>                                                   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 Times New Roman"/>
                  </a:rPr>
                  <a:t> </a:t>
                </a:r>
                <a:endParaRPr b="0" lang="en-US" sz="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33" name="fot_czeslawmiloszfotografiamaturalna1" descr="Cz. Miłosz, fotografia maturalna. Fot. z archiwum A. Miłosza."/>
          <p:cNvPicPr/>
          <p:nvPr/>
        </p:nvPicPr>
        <p:blipFill>
          <a:blip r:embed="rId1"/>
          <a:stretch/>
        </p:blipFill>
        <p:spPr>
          <a:xfrm>
            <a:off x="1301760" y="2362320"/>
            <a:ext cx="2727360" cy="40384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171880" y="2354400"/>
            <a:ext cx="4800600" cy="2103480"/>
            <a:chOff x="2171880" y="2354400"/>
            <a:chExt cx="4800600" cy="2103480"/>
          </a:xfrm>
        </p:grpSpPr>
        <p:sp>
          <p:nvSpPr>
            <p:cNvPr id="336" name=""/>
            <p:cNvSpPr/>
            <p:nvPr/>
          </p:nvSpPr>
          <p:spPr>
            <a:xfrm>
              <a:off x="2171880" y="23544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2171880" y="2354400"/>
              <a:ext cx="4800600" cy="2103480"/>
              <a:chOff x="2171880" y="2354400"/>
              <a:chExt cx="4800600" cy="2103480"/>
            </a:xfrm>
          </p:grpSpPr>
          <p:sp>
            <p:nvSpPr>
              <p:cNvPr id="338" name=""/>
              <p:cNvSpPr/>
              <p:nvPr/>
            </p:nvSpPr>
            <p:spPr>
              <a:xfrm>
                <a:off x="2171880" y="235440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171880" y="2354400"/>
                <a:ext cx="4800600" cy="21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Verdana"/>
                  </a:rPr>
                  <a:t>  </a:t>
                </a:r>
                <a:r>
                  <a:rPr b="0" lang="en-US" sz="13200" spc="-1" strike="noStrike">
                    <a:solidFill>
                      <a:srgbClr val="003366"/>
                    </a:solidFill>
                    <a:latin typeface="Verdana"/>
                  </a:rPr>
                  <a:t> 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Verdana"/>
                  </a:rPr>
                  <a:t>                                                   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 Times New Roman"/>
                  </a:rPr>
                  <a:t> </a:t>
                </a:r>
                <a:endParaRPr b="0" lang="en-US" sz="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40" name="fot_czeslawmiloszwczasachstudenckich1" descr="Cz. Miłosz, fotografia z lat studenckich. Fot. z archiwum A. Miłosza."/>
          <p:cNvPicPr/>
          <p:nvPr/>
        </p:nvPicPr>
        <p:blipFill>
          <a:blip r:embed="rId2"/>
          <a:stretch/>
        </p:blipFill>
        <p:spPr>
          <a:xfrm>
            <a:off x="5281560" y="2362320"/>
            <a:ext cx="27450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W Kaliforni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77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171880" y="2773440"/>
            <a:ext cx="4800600" cy="1311120"/>
            <a:chOff x="2171880" y="2773440"/>
            <a:chExt cx="4800600" cy="1311120"/>
          </a:xfrm>
        </p:grpSpPr>
        <p:sp>
          <p:nvSpPr>
            <p:cNvPr id="345" name=""/>
            <p:cNvSpPr/>
            <p:nvPr/>
          </p:nvSpPr>
          <p:spPr>
            <a:xfrm>
              <a:off x="2171880" y="2773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2171880" y="2773440"/>
              <a:ext cx="4800600" cy="1311120"/>
              <a:chOff x="2171880" y="2773440"/>
              <a:chExt cx="4800600" cy="1311120"/>
            </a:xfrm>
          </p:grpSpPr>
          <p:sp>
            <p:nvSpPr>
              <p:cNvPr id="347" name=""/>
              <p:cNvSpPr/>
              <p:nvPr/>
            </p:nvSpPr>
            <p:spPr>
              <a:xfrm>
                <a:off x="2171880" y="277344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171880" y="2773440"/>
                <a:ext cx="4800600" cy="131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Verdana"/>
                  </a:rPr>
                  <a:t>  </a:t>
                </a:r>
                <a:r>
                  <a:rPr b="0" lang="en-US" sz="7400" spc="-1" strike="noStrike">
                    <a:solidFill>
                      <a:srgbClr val="003366"/>
                    </a:solidFill>
                    <a:latin typeface="Verdana"/>
                  </a:rPr>
                  <a:t> 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Verdana"/>
                  </a:rPr>
                  <a:t>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49" name="fot_czeslawmiloszprzedswoimdomemwberkeley1" descr="Czesław Miłosz przed swoim domem w Berkeley. Fot. ze zbiorów A. Miłosza."/>
          <p:cNvPicPr/>
          <p:nvPr/>
        </p:nvPicPr>
        <p:blipFill>
          <a:blip r:embed="rId1"/>
          <a:stretch/>
        </p:blipFill>
        <p:spPr>
          <a:xfrm>
            <a:off x="1066680" y="2779560"/>
            <a:ext cx="4267440" cy="35179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486120" y="3564000"/>
            <a:ext cx="31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171880" y="2278080"/>
            <a:ext cx="4800600" cy="2301840"/>
            <a:chOff x="2171880" y="2278080"/>
            <a:chExt cx="4800600" cy="2301840"/>
          </a:xfrm>
        </p:grpSpPr>
        <p:sp>
          <p:nvSpPr>
            <p:cNvPr id="353" name=""/>
            <p:cNvSpPr/>
            <p:nvPr/>
          </p:nvSpPr>
          <p:spPr>
            <a:xfrm>
              <a:off x="2171880" y="22780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2171880" y="2278080"/>
              <a:ext cx="4800600" cy="2301840"/>
              <a:chOff x="2171880" y="2278080"/>
              <a:chExt cx="4800600" cy="2301840"/>
            </a:xfrm>
          </p:grpSpPr>
          <p:sp>
            <p:nvSpPr>
              <p:cNvPr id="355" name=""/>
              <p:cNvSpPr/>
              <p:nvPr/>
            </p:nvSpPr>
            <p:spPr>
              <a:xfrm>
                <a:off x="2171880" y="227808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171880" y="2278080"/>
                <a:ext cx="4800600" cy="23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Verdana"/>
                  </a:rPr>
                  <a:t>  </a:t>
                </a:r>
                <a:r>
                  <a:rPr b="0" lang="en-US" sz="13900" spc="-1" strike="noStrike">
                    <a:solidFill>
                      <a:srgbClr val="003366"/>
                    </a:solidFill>
                    <a:latin typeface="Verdana"/>
                  </a:rPr>
                  <a:t> 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Verdana"/>
                  </a:rPr>
                  <a:t>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57" name="fot_czeslawmilosznawzgorzugrizzlypeak1" descr="Czesław Miłosz na wzgórzu Griizly Peak. Fot. ze zbiorów A. Miłosza."/>
          <p:cNvPicPr/>
          <p:nvPr/>
        </p:nvPicPr>
        <p:blipFill>
          <a:blip r:embed="rId2"/>
          <a:stretch/>
        </p:blipFill>
        <p:spPr>
          <a:xfrm>
            <a:off x="6107040" y="2666880"/>
            <a:ext cx="246708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Nagroda Nobl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171880" y="2833560"/>
            <a:ext cx="4800600" cy="1190520"/>
            <a:chOff x="2171880" y="2833560"/>
            <a:chExt cx="4800600" cy="1190520"/>
          </a:xfrm>
        </p:grpSpPr>
        <p:sp>
          <p:nvSpPr>
            <p:cNvPr id="362" name=""/>
            <p:cNvSpPr/>
            <p:nvPr/>
          </p:nvSpPr>
          <p:spPr>
            <a:xfrm>
              <a:off x="2171880" y="28335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171880" y="2833560"/>
              <a:ext cx="4800600" cy="1190520"/>
              <a:chOff x="2171880" y="2833560"/>
              <a:chExt cx="4800600" cy="1190520"/>
            </a:xfrm>
          </p:grpSpPr>
          <p:sp>
            <p:nvSpPr>
              <p:cNvPr id="364" name=""/>
              <p:cNvSpPr/>
              <p:nvPr/>
            </p:nvSpPr>
            <p:spPr>
              <a:xfrm>
                <a:off x="2171880" y="283356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171880" y="2833560"/>
                <a:ext cx="4800600" cy="11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Verdana"/>
                  </a:rPr>
                  <a:t>  </a:t>
                </a:r>
                <a:r>
                  <a:rPr b="0" lang="en-US" sz="6600" spc="-1" strike="noStrike">
                    <a:solidFill>
                      <a:srgbClr val="003366"/>
                    </a:solidFill>
                    <a:latin typeface="Verdana"/>
                  </a:rPr>
                  <a:t> 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Verdana"/>
                  </a:rPr>
                  <a:t>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66" name="fot_przemowienieczmiloszapodczaswreczanianagrodnobla" descr="Przemówienie w czasie wręczania nagrody Nobla."/>
          <p:cNvPicPr/>
          <p:nvPr/>
        </p:nvPicPr>
        <p:blipFill>
          <a:blip r:embed="rId1"/>
          <a:stretch/>
        </p:blipFill>
        <p:spPr>
          <a:xfrm>
            <a:off x="1219320" y="2212920"/>
            <a:ext cx="7086600" cy="434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69640" y="1521000"/>
            <a:ext cx="7380360" cy="5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3366"/>
                </a:solidFill>
                <a:latin typeface="Times New Roman"/>
              </a:rPr>
              <a:t>Nagroda Nobl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447560" y="2590920"/>
            <a:ext cx="6662520" cy="29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62080" y="2598840"/>
            <a:ext cx="5021280" cy="1694160"/>
            <a:chOff x="2062080" y="2598840"/>
            <a:chExt cx="5021280" cy="1694160"/>
          </a:xfrm>
        </p:grpSpPr>
        <p:sp>
          <p:nvSpPr>
            <p:cNvPr id="370" name=""/>
            <p:cNvSpPr/>
            <p:nvPr/>
          </p:nvSpPr>
          <p:spPr>
            <a:xfrm>
              <a:off x="2154240" y="259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54240" y="2598840"/>
              <a:ext cx="49291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3366"/>
                  </a:solidFill>
                  <a:latin typeface="Verdana"/>
                </a:rPr>
                <a:t>CZESŁAW MIŁOSZ (1980)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62080" y="3407040"/>
              <a:ext cx="184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1311120" y="3927600"/>
            <a:ext cx="547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05120" y="3429000"/>
            <a:ext cx="5638680" cy="2654280"/>
          </a:xfrm>
          <a:prstGeom prst="rect">
            <a:avLst/>
          </a:prstGeom>
          <a:solidFill>
            <a:srgbClr val="f0efe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Verdana"/>
              </a:rPr>
              <a:t>KTO:</a:t>
            </a:r>
            <a:br>
              <a:rPr sz="2400"/>
            </a:br>
            <a:r>
              <a:rPr b="0" lang="pl-PL" sz="2400" spc="-1" strike="noStrike">
                <a:solidFill>
                  <a:srgbClr val="003366"/>
                </a:solidFill>
                <a:latin typeface="Verdana"/>
              </a:rPr>
              <a:t>       poeta i eseista</a:t>
            </a:r>
            <a:br>
              <a:rPr sz="2400"/>
            </a:br>
            <a:r>
              <a:rPr b="1" i="1" lang="pl-PL" sz="2400" spc="-1" strike="noStrike">
                <a:solidFill>
                  <a:srgbClr val="003366"/>
                </a:solidFill>
                <a:latin typeface="Verdana"/>
              </a:rPr>
              <a:t>NARODOWOŚĆ:</a:t>
            </a:r>
            <a:br>
              <a:rPr sz="2400"/>
            </a:br>
            <a:r>
              <a:rPr b="0" lang="pl-PL" sz="2400" spc="-1" strike="noStrike">
                <a:solidFill>
                  <a:srgbClr val="003366"/>
                </a:solidFill>
                <a:latin typeface="Verdana"/>
              </a:rPr>
              <a:t>       polska</a:t>
            </a:r>
            <a:br>
              <a:rPr sz="2400"/>
            </a:br>
            <a:r>
              <a:rPr b="1" i="1" lang="pl-PL" sz="2400" spc="-1" strike="noStrike">
                <a:solidFill>
                  <a:srgbClr val="003366"/>
                </a:solidFill>
                <a:latin typeface="Verdana"/>
              </a:rPr>
              <a:t>URODZONY:</a:t>
            </a:r>
            <a:br>
              <a:rPr sz="2400"/>
            </a:br>
            <a:r>
              <a:rPr b="0" lang="pl-PL" sz="2400" spc="-1" strike="noStrike">
                <a:solidFill>
                  <a:srgbClr val="003366"/>
                </a:solidFill>
                <a:latin typeface="Verdana"/>
              </a:rPr>
              <a:t>       30 czerwca 1911, Szetejnie (Litwa)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Po 52 latach na Litw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2171880" y="2871720"/>
            <a:ext cx="4800600" cy="1114560"/>
            <a:chOff x="2171880" y="2871720"/>
            <a:chExt cx="4800600" cy="1114560"/>
          </a:xfrm>
        </p:grpSpPr>
        <p:sp>
          <p:nvSpPr>
            <p:cNvPr id="379" name=""/>
            <p:cNvSpPr/>
            <p:nvPr/>
          </p:nvSpPr>
          <p:spPr>
            <a:xfrm>
              <a:off x="2171880" y="2871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2171880" y="2871720"/>
              <a:ext cx="4800600" cy="1114560"/>
              <a:chOff x="2171880" y="2871720"/>
              <a:chExt cx="4800600" cy="1114560"/>
            </a:xfrm>
          </p:grpSpPr>
          <p:sp>
            <p:nvSpPr>
              <p:cNvPr id="381" name=""/>
              <p:cNvSpPr/>
              <p:nvPr/>
            </p:nvSpPr>
            <p:spPr>
              <a:xfrm>
                <a:off x="2171880" y="287172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171880" y="2871720"/>
                <a:ext cx="4800600" cy="11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Verdana"/>
                  </a:rPr>
                  <a:t>  </a:t>
                </a:r>
                <a:r>
                  <a:rPr b="0" lang="en-US" sz="6100" spc="-1" strike="noStrike">
                    <a:solidFill>
                      <a:srgbClr val="003366"/>
                    </a:solidFill>
                    <a:latin typeface="Verdana"/>
                  </a:rPr>
                  <a:t> 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Verdana"/>
                  </a:rPr>
                  <a:t>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83" name="fot_czeslawmilosznadniewiaza1" descr="Czesław Miłosz nad Niewiażą. Fot. ze zbiorów A. Miłosza."/>
          <p:cNvPicPr/>
          <p:nvPr/>
        </p:nvPicPr>
        <p:blipFill>
          <a:blip r:embed="rId1"/>
          <a:stretch/>
        </p:blipFill>
        <p:spPr>
          <a:xfrm>
            <a:off x="1600200" y="2179800"/>
            <a:ext cx="6477120" cy="44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204" descr=""/>
          <p:cNvPicPr/>
          <p:nvPr/>
        </p:nvPicPr>
        <p:blipFill>
          <a:blip r:embed="rId1"/>
          <a:stretch/>
        </p:blipFill>
        <p:spPr>
          <a:xfrm>
            <a:off x="5715000" y="2209680"/>
            <a:ext cx="3143160" cy="38102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5943600" y="2743200"/>
            <a:ext cx="28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346480" y="6066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606600"/>
            <a:ext cx="39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3366"/>
                </a:solidFill>
                <a:latin typeface="Times New Roman"/>
              </a:rPr>
              <a:t>Poeta w Krakowi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67800" y="251136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2" name="krak" descr="Kraków - Sukiennice"/>
          <p:cNvPicPr/>
          <p:nvPr/>
        </p:nvPicPr>
        <p:blipFill>
          <a:blip r:embed="rId2"/>
          <a:stretch/>
        </p:blipFill>
        <p:spPr>
          <a:xfrm flipH="1" rot="10800000">
            <a:off x="685800" y="2209680"/>
            <a:ext cx="4800600" cy="3786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660680" y="50259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08:57:27Z</dcterms:created>
  <dc:creator>MEN</dc:creator>
  <dc:description/>
  <dc:language>en-US</dc:language>
  <cp:lastModifiedBy>Grzes</cp:lastModifiedBy>
  <dcterms:modified xsi:type="dcterms:W3CDTF">2003-03-28T16:39:51Z</dcterms:modified>
  <cp:revision>35</cp:revision>
  <dc:subject/>
  <dc:title>Czesław  Miłosz</dc:title>
</cp:coreProperties>
</file>